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chomp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buzzer.wav" ContentType="audio/x-wav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F0C-7365-452C-84AF-A62FF470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9EA-EF57-4C5F-AECD-E8FF9930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6CC1F-FB23-4BFD-82A3-C9674255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84FAC-B673-435E-91F5-B8A38A52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79BAE-473F-487F-A859-DC7296B0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58DF0-E616-4177-AB07-87744D37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3356B-8352-4CF2-A002-BBCCEA45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A904A-4D61-4976-BACD-60BD7808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A57D1-491D-47E1-A0F9-16FDEC42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F0D4E-D0F4-42C4-9632-1CF8B32B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C4BEC-F43D-418F-A91B-3FE9AE8B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CC8B3-FAA2-4FE4-8170-9C4D9A63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7A2-7DE3-4846-A85C-B71CE366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2CAE5-8470-4BD2-886F-1F736D63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956E8-40B8-44AC-A751-4A47C251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E8B4B-89CF-4E4F-81AD-1AEA4387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54A7D-C8B1-4CED-AB7C-BC1E9796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84EBC-491B-4767-AB99-8B766EAE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C834A-9173-44DD-A206-BBFEEAFB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D4BDC-4BD9-4F3D-9949-61B647D2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D5E9E-0A63-43FC-A4F5-CCE7ADD5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C4C1E-EB77-4966-A666-A45A9AA8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1E0A0-2912-4A99-83A8-6D0CD95F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38E-AA40-4DDF-88AC-12CE7214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89916-FA62-4842-A3DA-AB9D9F78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712A5-991D-47E0-BB11-C4119E56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9A227-26A8-4C33-9B21-492A807D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08F1D-C916-41A5-A1C5-631E6662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58C70-11DC-4D69-B4A7-189B7153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31C84-7253-4FB3-BD7B-F34A6572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4D5EA-67A9-4555-B7DC-D1ACD72E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897CD-C3E9-4529-8E92-F8D6F783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28214-4A55-4D1E-8F56-12DE85DB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33180-20F7-47DA-8AC1-8E228A62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484E0-5A8E-4A6D-A710-A2A5B73F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56467-9861-4948-A57E-D13C5696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B8B7D-EA47-4548-9389-6741A903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4380C-C664-4028-8697-3275FDE2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9A551-D772-473C-9585-0DDD762F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EC4D5-63CF-4AD9-B00C-B6516ED0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13E6C-9417-489C-B6C5-BFDBDC16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68C00-7652-4658-9B2C-E4F403CE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904E7-0E20-44AC-ABCB-DE4F5C7F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4B38A-301D-4FE4-AF56-93162F22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D6A0A-35DF-429D-89D4-2D80D681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D3530-0F40-4D86-88B3-5824AD07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B9E06-E4C0-419A-BA16-46B49C98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9F35B-785C-47B8-A7A4-94B6C6FE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51ED2-14AE-4C03-B2AF-F92D7243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0E276-F882-4356-8CAC-4414DBFE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988FD-AC17-427D-B998-D0955049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3521B-9B72-4574-8A4E-58214BB8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CC15E-DF4F-459D-A2E2-17296CF1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D228A-D255-4E2F-A526-C4793F8E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FDD00-34D1-45BA-8896-3370B3C6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D429D-12C5-455B-ABC9-8D89893D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6E6F1-191C-4A43-A78A-2D5A2046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C48FA-65FB-46B4-A307-9C8D8576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A24C0-8355-468A-9ED7-41CD5E3D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BC9AF-593B-4D94-BD50-D3EF46FD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CD7A4-425C-4C5E-B162-C07FA7AC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50B38-F385-4157-A797-6ED1EFF9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41CDE-65C6-4D9B-8EFD-09BAF15E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252EE-E6D2-48BE-9EFC-E3B6A4B3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7E288-B975-4ACE-B7E5-3EDD9194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CCA44-288E-4CA6-8D4A-B3712DA7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B65A1-5A1E-4AE4-A684-03DE894B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3C671-05B8-4C05-B8DE-4FDA566C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E343A-19FC-4F6D-B12D-1D24F8C1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3B647-9959-4E8E-89B5-529E3321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911FE-63EA-4ED6-9414-E0FDCCCA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3460A-E508-4897-A902-EA846A0E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A71DB-BF96-4B6A-9626-28E69475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368F0-765C-445C-901C-E9BE0489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53677-8A6E-4861-8EA6-3DAE2450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FE6C6-F7ED-4A22-9EC0-8B5B09AD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163AB-CCFA-4A12-ACF5-7A7514B4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38351-8781-4536-8683-AE7E92AD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25019-874F-482F-B7DD-D076004D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B265A-85FE-4B3C-B1E4-4F3FB98A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25CC1-A526-424A-9E3A-8111C48D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C8B3E-1278-4668-9947-53D58507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EDD2E-8BCC-4EBB-A27E-BA1D2B74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7AC3F-CE63-46F5-A1BD-785A4E8B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84149-E4F6-4F70-BD48-CF1D5E18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3B998-0FC9-47EF-94BA-CA7C0AA9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C93C2-4FA1-4C3D-A6FF-92415ED1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B6E14-F0A2-4F98-8CB5-02FA78BC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75D74-F8A8-4B62-8810-6705171B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9277ED-5E4D-4E45-AB44-08196A1A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105A9-7A55-4536-A124-E2C967E4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A9BD0-F7DC-449E-9521-1911258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B05BB-ADF1-4493-BCA4-AD9B31E4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99EA8-4565-4BF0-8281-BBB6D0B1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78A25-CBDA-42F2-B8F0-38B5235E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D5C78-3146-4E0A-9E81-B1EA90BD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CB4FF7-4C0E-4996-AB23-9D281213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8C0C5D-1111-47A8-9F9C-361C4C2A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E2270F-3665-46A6-BF70-4C2603C3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491B80-ADF5-4A10-98D9-1A6F6888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9349B-A841-47E8-AAB4-A7B4E601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03D9E-7A8F-42E9-A5CB-52B17E46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27CD6-17F5-418F-9247-67FDF459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F5D02-90C3-4015-A99A-13156C8D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FDF-0874-4940-AF7A-B144A35E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5900D1-4E8E-4419-8EDA-72311DBC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84E9E-EFA7-4984-B3B9-6CB6A4C7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5E369-2667-4510-A73A-C2B1229B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A2184-560F-4DE6-A183-18FBD0AF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9319A-C79F-4DAC-8B66-7086B7E3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30D556-9A68-4A95-BF69-EEC1CCCB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39328C-2CC1-4D9B-9E68-65C6FC2A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7F3377-9AFA-4218-830C-F751A547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0699B1-7E17-4875-97E4-726D20F5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7CFDD-3C83-487C-923B-16C0D2EE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A52D35-5568-476D-AE16-067B765E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25F7EA-5259-4C91-BAB4-E40F8591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D82A2E-C9BD-4CB0-8C52-771ECE33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721796-63F9-4D95-99B4-924C6062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7E92AA-6372-45AE-A821-A970B480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751D9-4A98-4330-B3AE-96D05B4F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320066-9A30-4A73-89A9-B188E98C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F72363-FF32-4AF7-BAC7-3DE5FD56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54CA33-975A-4B1A-A17C-45C83A79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70DD7-B461-4CD8-B9B5-90C4AA64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87477D-4FCB-4A9D-AFFB-1C82F044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0DE319-87D7-41EB-B126-CCBF26EA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3B7216-BBB7-4704-9ED7-DCBE175F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9D8188-809D-49DC-B308-408991E6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45D546-946A-4262-B377-62A1E18F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0581CA-4B26-47F2-AB0B-8A791CBE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AB26DE-09B8-4128-8192-A09321AE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CFA8CD-A5DC-46A5-99FC-8E29B63D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FA3584-E76B-4479-9ACE-D6A0F150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1DF1F6-7DDD-48EE-A343-EC45598C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04175-78AF-4B5A-9472-A7375998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D83920-0759-4C55-9D03-04ADB1D9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2B2F13-3170-467D-B22F-4566BF0A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F5DED7-0F3B-44C1-BF46-9BC04ABF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9C7DF8-95E6-4838-BFB1-0C20C377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AE8E6D-F8FD-4935-B4F1-B11ACCF4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5BF1C1-9BC9-40DA-B5C3-D68A00A9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4431B3-1058-474B-8176-CD4F225B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26D151-23F8-4D5C-B022-CE04B5E1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0B80E4-C024-48A7-AC28-9A88364B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E53406-0008-4551-8102-2B3A2B09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8566BB-8581-4A19-9342-5A6AD5AF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C4A3ED-9611-4E4D-972D-7AC64911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37C6A4-0FD0-453E-BE60-32E5F4FF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575C20-6E96-4CF4-98DC-D6F5FDCD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65198A-7EF3-441A-83DE-49F35A5C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01E8ED-7925-4012-9408-E7CD5999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36C5A5-9A47-40F1-A61E-3EF83F6F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5EC4EB-BE3C-4F58-ACC9-AAC62B18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920528-A73E-4315-9A33-CD8A5A40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87967C-4737-4ABE-A9EE-DF47FF84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ED9FB-8458-4B78-84DD-B4424342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479125-5C45-4B44-A194-D05B8159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CD8924-F62B-4E42-9198-A701CC54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B8CD54-5C0F-4CD9-81FF-79E0A37C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9B4FDA-8674-42B5-A569-48BC4FB3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B2614D-192B-4972-93CE-4A4D5A49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0ABC9D-D26B-4B80-88AA-9E8FDF9D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4DBC09-F463-4310-ABCB-BA7A9B4D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CAF47C-4541-429D-9279-7E2098EF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66B693-DA5C-41F1-B358-4DC1430E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CF2FD1-7AED-42B3-83AF-C45E2E9C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1493D6-BD68-48AB-8295-FB25F2D9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4507B-16DE-490E-9A37-8943A023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1992C5-335F-4B64-8288-0859B59E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7EE247-A531-4C74-A671-38052003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4F46E2-11E9-4282-9926-B160F82D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A47AF4-C4D8-4516-BF80-5254D40B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36327F-4738-4B06-A8F0-41DE641F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AF381A-1667-4D4E-83C7-4B89A691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514C2A-7788-42B1-97A0-CF91958C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76DD86-8E04-43FD-97EB-C622161C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1A9C14-EF6C-4F33-B679-5BA7455B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5B39EC-DD02-4A13-A9A6-1696A8C6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2908B0-7596-4C08-8690-1C4CC478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98179C-3E8D-4CC8-8CE2-EC7148BF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3A49C4-554C-4384-B85F-6922BF9C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005227-C6D7-4179-B840-D01B8484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9E29D4-5B1D-4960-B545-7CFD0486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E84877-56E8-43C5-9DBA-D3D78F6E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D08D5B-95A7-494F-BF96-42EB6310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A83B13-2D41-4278-ADC4-99104206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DAAABC-5F78-4AC1-A9CA-41369B9E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67B037-737E-4690-800D-FA30349A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2C4FEC-2AF1-4FB1-A262-9054220F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EEC73E-F23B-42DD-84EE-F87C844F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784BEE-FC37-44EB-AF6B-1B319EB6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9BA9B8-0324-4720-A7FC-D3FE305F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321F56-8115-48D1-BEDE-A7DAF06D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987-7537-45BC-A043-4FDB9EBA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0ED-61B4-49F4-9BDB-4D09EA24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72C7-894E-47D5-AD84-3DE4885E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4CC-6548-4CE6-8576-F3BE563B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7ED9-A82F-412A-B4A9-3E9E0731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3655-499B-412D-9D4D-77A77D0C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B14C-074E-4824-8371-69C24915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3E1D-5183-49B5-B7E9-1FB58AA9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87BB-9882-418A-A656-1586DC0A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1709-B093-4254-9D07-69ABAD67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4B4E-E08B-4342-A299-E5AF5834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E3AA-968D-4187-A09C-28D1A0CB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A580-201F-47F3-8568-72C89B3C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23D3-AE97-4569-95C7-3E33D31E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287-56D4-49DF-83B5-D399883C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6417-330D-4178-B54B-CB21B82D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4F124-C252-4E56-87C3-F701DAE4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B796-1637-483A-B000-944029EF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6AEC3-497C-4870-9682-B88C245C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74EFD-345E-45E9-AD25-743E812C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B8537-5E00-45E6-BE6F-97D7FEAC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6B29B-623A-49F4-BD22-AAEA3C66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EA131-CCB9-4C93-84D8-DB5CCCC5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C5471-2BC3-4794-8671-3869B99A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D0DB-A0EB-4026-8E70-CBA50FD0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D28-37E1-4C5E-A1F7-CE8CC137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797C1-FCBE-4568-B22B-B013047C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E893E-697A-4C87-B807-1D8EE775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AF937-B51D-4514-B6E1-D4EBE887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A5F47-E55E-44D1-8897-9E05629C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712A8-A345-4AE2-BDF3-BDAC3F38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F69E8-C1E5-470A-BBC8-DFFE27D0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5F462-09A3-4670-B1BC-EE740AB0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79052-03E5-4705-B441-51C06502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601A8-DC44-47FE-AC69-5781CCB3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D0046-E009-406A-8330-1E7E315A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29D-CF54-4931-8196-0D86839E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1162D-E787-4291-A956-D480564C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A36AB-97AB-4903-BED4-CDAC4D20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E3B17-F7EA-47BC-BD60-61251176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DFC54-1C1B-4B10-89F4-B903696A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9A547-1CB8-4226-B0CF-EDBD1F5D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624D0-2D8A-4CDF-8E4F-0DDB8031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21538-8B07-4900-9A43-1EB08453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E3026-9CA2-4874-AA91-DBE9FD50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D9230-7FD1-4ACD-A24C-3778303F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DD3A5-A73F-4825-BBA8-9A9DA8EF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53B-B9D0-4AC6-B0A1-7FEDD661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79EB2-C11E-4D86-A447-6C8C49EF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68CB9-0800-45BE-9DE1-D0F4411F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467D5-52CE-4A57-AD16-CF4CB0D1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4D00A-EB18-4A15-A15D-B96FFF72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BA778-FA12-425E-96E2-EF7BBE87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7A038-C227-4D36-986B-D040F72E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049AF-9B22-4ACD-9EA8-ED106AD3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901B6-BA4D-4B9C-A3F5-6E9F46ED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8163A-A2A0-4B34-86B3-D4372867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32208-A2D7-4299-92CF-F72F469D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048F-8078-4B8B-BECD-B28A5CB853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99D8-3E2A-4426-B19D-8284B1C859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B868-405F-4D18-AE2E-BAD35DEC8A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2A40-7017-4B39-B94C-0B33CCE6AAA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8BF7-FEF3-4F82-8622-990A458FBB0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2092-69D5-451B-B95B-1BE93E245FB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66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66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67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67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68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68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5DBE-3172-420B-B6D3-A65F7923C4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3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3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4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4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5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6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B36E-EBF8-46B9-90F3-AD2E534AE60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0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0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1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1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2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3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2A5E-8C2B-4EAB-B033-87AC451C8B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7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8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8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9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0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9187-79D9-49B4-BB32-8DD0720738E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4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5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5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6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6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7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7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F309-8B63-4F5C-9305-1639D05F5FF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1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2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2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3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3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4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8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460E-E8DD-4AFF-AF8D-BC433BD4B2A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8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9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9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0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0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1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9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97DD-BFAF-406A-8E21-5F29C5CB63A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6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6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6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7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7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8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0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48EF-5AC4-4467-9EB1-93B0296C44C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3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3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4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4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5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5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1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CD4E-6DF9-48E2-ADFC-E046E59C0A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0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0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1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1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2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2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2" name="PlaceHolder 1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C714-A1E5-48A7-8D0A-C0E68AE28A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8409-C174-43EF-AB9D-EF7046137D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F68E-7BA6-434E-8C7D-49677EC4F8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1D9E-AEC1-45E5-955C-9B491E77DEF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2570-4249-4E98-BADA-5A271363250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36F0-3CB0-4CEF-BDD8-C30FF76FB16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uzz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TextBox 6"/>
          <p:cNvSpPr/>
          <p:nvPr/>
        </p:nvSpPr>
        <p:spPr>
          <a:xfrm>
            <a:off x="5486400" y="3505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TextBox 7"/>
          <p:cNvSpPr/>
          <p:nvPr/>
        </p:nvSpPr>
        <p:spPr>
          <a:xfrm>
            <a:off x="5486400" y="4038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3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74" name="Rounded Rectangular Callout 4"/>
          <p:cNvSpPr/>
          <p:nvPr/>
        </p:nvSpPr>
        <p:spPr>
          <a:xfrm>
            <a:off x="4648320" y="2438280"/>
            <a:ext cx="3352680" cy="2667240"/>
          </a:xfrm>
          <a:prstGeom prst="wedgeRoundRectCallout">
            <a:avLst>
              <a:gd name="adj1" fmla="val -96925"/>
              <a:gd name="adj2" fmla="val 2364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4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3" name="Picture 10" descr="confident.jpg"/>
          <p:cNvPicPr/>
          <p:nvPr/>
        </p:nvPicPr>
        <p:blipFill>
          <a:blip r:embed="rId1"/>
          <a:srcRect l="0" t="0" r="0" b="42733"/>
          <a:stretch/>
        </p:blipFill>
        <p:spPr>
          <a:xfrm>
            <a:off x="1219320" y="4800600"/>
            <a:ext cx="1600200" cy="2057400"/>
          </a:xfrm>
          <a:prstGeom prst="rect">
            <a:avLst/>
          </a:prstGeom>
          <a:ln w="0">
            <a:noFill/>
          </a:ln>
        </p:spPr>
      </p:pic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as, Part 1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Without a doubt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 pass the comma tes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6" name="Rounded Rectangular Callout 5"/>
          <p:cNvSpPr/>
          <p:nvPr/>
        </p:nvSpPr>
        <p:spPr>
          <a:xfrm>
            <a:off x="5181480" y="5029200"/>
            <a:ext cx="2819520" cy="1676520"/>
          </a:xfrm>
          <a:prstGeom prst="wedgeRoundRectCallout">
            <a:avLst>
              <a:gd name="adj1" fmla="val -147314"/>
              <a:gd name="adj2" fmla="val -2706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know commas as well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Subtitle 2"/>
          <p:cNvSpPr/>
          <p:nvPr/>
        </p:nvSpPr>
        <p:spPr>
          <a:xfrm>
            <a:off x="762120" y="1523880"/>
            <a:ext cx="7619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commas to connec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ntroductory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nterrupting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 som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concluding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rupting material will include a comma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befo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comma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afte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Subtitle 2"/>
          <p:cNvSpPr/>
          <p:nvPr/>
        </p:nvSpPr>
        <p:spPr>
          <a:xfrm>
            <a:off x="1371600" y="3886200"/>
            <a:ext cx="6400800" cy="9144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, without a doub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ss the comma t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Subtitle 2"/>
          <p:cNvSpPr/>
          <p:nvPr/>
        </p:nvSpPr>
        <p:spPr>
          <a:xfrm>
            <a:off x="1371600" y="3886200"/>
            <a:ext cx="6400800" cy="9144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 pass the comma test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, without a doub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as, Part 2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1066680" y="3657240"/>
            <a:ext cx="7010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 pass the comma test. Slacker Sam will no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2" name="Subtitle 2"/>
          <p:cNvSpPr/>
          <p:nvPr/>
        </p:nvSpPr>
        <p:spPr>
          <a:xfrm>
            <a:off x="609480" y="1523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a comma with a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coordinating conjunction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connect two sente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rdinating conjunctions =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bu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fo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o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no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ye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o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Subtitle 2"/>
          <p:cNvSpPr/>
          <p:nvPr/>
        </p:nvSpPr>
        <p:spPr>
          <a:xfrm>
            <a:off x="1066680" y="3657600"/>
            <a:ext cx="7010640" cy="1219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 pass the comma test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Slacker Sam will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4" name="Picture 6" descr="modest.jpg"/>
          <p:cNvPicPr/>
          <p:nvPr/>
        </p:nvPicPr>
        <p:blipFill>
          <a:blip r:embed="rId1"/>
          <a:srcRect l="0" t="0" r="0" b="39064"/>
          <a:stretch/>
        </p:blipFill>
        <p:spPr>
          <a:xfrm>
            <a:off x="1371600" y="4521240"/>
            <a:ext cx="3648240" cy="2336760"/>
          </a:xfrm>
          <a:prstGeom prst="rect">
            <a:avLst/>
          </a:prstGeom>
          <a:ln w="0">
            <a:noFill/>
          </a:ln>
        </p:spPr>
      </p:pic>
      <p:sp>
        <p:nvSpPr>
          <p:cNvPr id="1415" name="Rounded Rectangular Callout 5"/>
          <p:cNvSpPr/>
          <p:nvPr/>
        </p:nvSpPr>
        <p:spPr>
          <a:xfrm>
            <a:off x="5638680" y="4724280"/>
            <a:ext cx="2895840" cy="1905120"/>
          </a:xfrm>
          <a:prstGeom prst="wedgeRoundRectCallout">
            <a:avLst>
              <a:gd name="adj1" fmla="val -128208"/>
              <a:gd name="adj2" fmla="val -1026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have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tudy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want to d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wel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9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8" descr="happy.jpg"/>
          <p:cNvPicPr/>
          <p:nvPr/>
        </p:nvPicPr>
        <p:blipFill>
          <a:blip r:embed="rId1"/>
          <a:stretch/>
        </p:blipFill>
        <p:spPr>
          <a:xfrm>
            <a:off x="457200" y="4038480"/>
            <a:ext cx="1558800" cy="2819520"/>
          </a:xfrm>
          <a:prstGeom prst="rect">
            <a:avLst/>
          </a:prstGeom>
          <a:ln w="0">
            <a:noFill/>
          </a:ln>
        </p:spPr>
      </p:pic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as, Part 3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1143000" y="3276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will buy a bag of potato chips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hotdo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9" name="Subtitle 2"/>
          <p:cNvSpPr/>
          <p:nvPr/>
        </p:nvSpPr>
        <p:spPr>
          <a:xfrm>
            <a:off x="762120" y="1523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e to connect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two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commas and an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connect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three or mor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e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Subtitle 2"/>
          <p:cNvSpPr/>
          <p:nvPr/>
        </p:nvSpPr>
        <p:spPr>
          <a:xfrm>
            <a:off x="1143000" y="3276720"/>
            <a:ext cx="6858000" cy="10666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will buy a bag of potato chips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hotdog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so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Rounded Rectangular Callout 5"/>
          <p:cNvSpPr/>
          <p:nvPr/>
        </p:nvSpPr>
        <p:spPr>
          <a:xfrm>
            <a:off x="4114800" y="4495680"/>
            <a:ext cx="2819520" cy="1676520"/>
          </a:xfrm>
          <a:prstGeom prst="wedgeRoundRectCallout">
            <a:avLst>
              <a:gd name="adj1" fmla="val -163500"/>
              <a:gd name="adj2" fmla="val -473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Hard 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rves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rewar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1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micolon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subTitle"/>
          </p:nvPr>
        </p:nvSpPr>
        <p:spPr>
          <a:xfrm>
            <a:off x="1143000" y="3962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orries about her grade in statistics. Math is not her best subjec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4" name="Subtitle 2"/>
          <p:cNvSpPr/>
          <p:nvPr/>
        </p:nvSpPr>
        <p:spPr>
          <a:xfrm>
            <a:off x="609480" y="1523880"/>
            <a:ext cx="79250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 semicolon 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to connect two main clau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no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 semicolon to introduce a list. The comma with a transition lik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such 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including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r the colon 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does that jo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Subtitle 2"/>
          <p:cNvSpPr/>
          <p:nvPr/>
        </p:nvSpPr>
        <p:spPr>
          <a:xfrm>
            <a:off x="1143000" y="3962520"/>
            <a:ext cx="685800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orries about her grade in 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statistics; ma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not her best su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Subtitle 2"/>
          <p:cNvSpPr/>
          <p:nvPr/>
        </p:nvSpPr>
        <p:spPr>
          <a:xfrm>
            <a:off x="1143000" y="3962520"/>
            <a:ext cx="6858000" cy="1523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prefers classes that require her to write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Intro to Humanities, Abnormal Psychology, and US Govern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7" name="Picture 11" descr="modest.jpg"/>
          <p:cNvPicPr/>
          <p:nvPr/>
        </p:nvPicPr>
        <p:blipFill>
          <a:blip r:embed="rId1"/>
          <a:srcRect l="0" t="0" r="0" b="50004"/>
          <a:stretch/>
        </p:blipFill>
        <p:spPr>
          <a:xfrm>
            <a:off x="5791320" y="5095800"/>
            <a:ext cx="3352680" cy="1762200"/>
          </a:xfrm>
          <a:prstGeom prst="rect">
            <a:avLst/>
          </a:prstGeom>
          <a:ln w="0">
            <a:noFill/>
          </a:ln>
        </p:spPr>
      </p:pic>
      <p:sp>
        <p:nvSpPr>
          <p:cNvPr id="1428" name="Rounded Rectangular Callout 9"/>
          <p:cNvSpPr/>
          <p:nvPr/>
        </p:nvSpPr>
        <p:spPr>
          <a:xfrm>
            <a:off x="1752480" y="5486400"/>
            <a:ext cx="2667240" cy="1143000"/>
          </a:xfrm>
          <a:prstGeom prst="wedgeRoundRectCallout">
            <a:avLst>
              <a:gd name="adj1" fmla="val 143000"/>
              <a:gd name="adj2" fmla="val -962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I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excel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unctuatio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3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ostrophe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1219320" y="426708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cant  cheat from Jasmines punctuation quiz because shes  absent today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1" name="Subtitle 2"/>
          <p:cNvSpPr/>
          <p:nvPr/>
        </p:nvSpPr>
        <p:spPr>
          <a:xfrm>
            <a:off x="685800" y="1447920"/>
            <a:ext cx="7924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 apostrophe 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with an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show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possessio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Jasmin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n, the cat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yes, the professor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’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w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use the apostrophe to indicate the letters/spaces removed in a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contractio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, can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, should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Subtitle 2"/>
          <p:cNvSpPr/>
          <p:nvPr/>
        </p:nvSpPr>
        <p:spPr>
          <a:xfrm>
            <a:off x="1219320" y="4267080"/>
            <a:ext cx="6705360" cy="1447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can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  cheat from Jasmine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 punctuation quiz because she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  absent toda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3" name="Picture 12" descr="scream.jpg"/>
          <p:cNvPicPr/>
          <p:nvPr/>
        </p:nvPicPr>
        <p:blipFill>
          <a:blip r:embed="rId1"/>
          <a:stretch/>
        </p:blipFill>
        <p:spPr>
          <a:xfrm>
            <a:off x="0" y="5334120"/>
            <a:ext cx="1163520" cy="1523880"/>
          </a:xfrm>
          <a:prstGeom prst="rect">
            <a:avLst/>
          </a:prstGeom>
          <a:ln w="0">
            <a:noFill/>
          </a:ln>
        </p:spPr>
      </p:pic>
      <p:sp>
        <p:nvSpPr>
          <p:cNvPr id="1434" name="Rounded Rectangular Callout 9"/>
          <p:cNvSpPr/>
          <p:nvPr/>
        </p:nvSpPr>
        <p:spPr>
          <a:xfrm>
            <a:off x="2971800" y="5410080"/>
            <a:ext cx="2666880" cy="1219320"/>
          </a:xfrm>
          <a:prstGeom prst="wedgeRoundRectCallout">
            <a:avLst>
              <a:gd name="adj1" fmla="val -134967"/>
              <a:gd name="adj2" fmla="val 82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Ha!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tist appointmen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0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, Part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6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7" name="Picture 7" descr="confident.jpg"/>
          <p:cNvPicPr/>
          <p:nvPr/>
        </p:nvPicPr>
        <p:blipFill>
          <a:blip r:embed="rId1"/>
          <a:srcRect l="0" t="0" r="0" b="42733"/>
          <a:stretch/>
        </p:blipFill>
        <p:spPr>
          <a:xfrm>
            <a:off x="1219320" y="4016520"/>
            <a:ext cx="2209680" cy="2841480"/>
          </a:xfrm>
          <a:prstGeom prst="rect">
            <a:avLst/>
          </a:prstGeom>
          <a:ln w="0">
            <a:noFill/>
          </a:ln>
        </p:spPr>
      </p:pic>
      <p:sp>
        <p:nvSpPr>
          <p:cNvPr id="1438" name="Rounded Rectangular Callout 6"/>
          <p:cNvSpPr/>
          <p:nvPr/>
        </p:nvSpPr>
        <p:spPr>
          <a:xfrm>
            <a:off x="4648320" y="4572000"/>
            <a:ext cx="2133360" cy="1752480"/>
          </a:xfrm>
          <a:prstGeom prst="wedgeRoundRectCallout">
            <a:avLst>
              <a:gd name="adj1" fmla="val -131078"/>
              <a:gd name="adj2" fmla="val -2684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9951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0" name="TextBox 3"/>
          <p:cNvSpPr/>
          <p:nvPr/>
        </p:nvSpPr>
        <p:spPr>
          <a:xfrm>
            <a:off x="533520" y="1676520"/>
            <a:ext cx="80769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though Raymond will eat a grasshopper,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s all green vegetables; such as pea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inach, and even cucu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though, Ray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sshopper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getables, s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TextBox 7"/>
          <p:cNvSpPr/>
          <p:nvPr/>
        </p:nvSpPr>
        <p:spPr>
          <a:xfrm>
            <a:off x="533520" y="1676520"/>
            <a:ext cx="8076960" cy="4647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lthough Raymo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eat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rasshopper, 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s all gre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vegetables; su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s pea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inach, and even cucu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though, Ray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sshopper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getables, s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TextBox 8"/>
          <p:cNvSpPr/>
          <p:nvPr/>
        </p:nvSpPr>
        <p:spPr>
          <a:xfrm>
            <a:off x="533520" y="1676520"/>
            <a:ext cx="8076960" cy="4647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lthough Raymo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eat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rasshopper, 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s all green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egetables, su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s pea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inach, and even cucu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though, Ray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sshopper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vegetables, s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1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4" name="TextBox 3"/>
          <p:cNvSpPr/>
          <p:nvPr/>
        </p:nvSpPr>
        <p:spPr>
          <a:xfrm>
            <a:off x="533520" y="1600200"/>
            <a:ext cx="8076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is calculus exam Scott rubbed his luc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abbit’s foot and found his favorite penc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, Sc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bbed,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ot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TextBox 7"/>
          <p:cNvSpPr/>
          <p:nvPr/>
        </p:nvSpPr>
        <p:spPr>
          <a:xfrm>
            <a:off x="533520" y="160020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is calculu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xam Scot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ubbed 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uc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abbit’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oot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his favorite penc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, Sc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bbed,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ot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TextBox 8"/>
          <p:cNvSpPr/>
          <p:nvPr/>
        </p:nvSpPr>
        <p:spPr>
          <a:xfrm>
            <a:off x="533520" y="1600200"/>
            <a:ext cx="822960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is calculu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xam, Scot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ubbed 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uc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abbit’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oot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his favorite penc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exam, Sc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bbed,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ot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0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8" name="TextBox 3"/>
          <p:cNvSpPr/>
          <p:nvPr/>
        </p:nvSpPr>
        <p:spPr>
          <a:xfrm>
            <a:off x="533520" y="167652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ncine has five chair’s but six guests coming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anksgiving dinner; she hopes that old Unc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s remembers to bring an ex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uest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ember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TextBox 8"/>
          <p:cNvSpPr/>
          <p:nvPr/>
        </p:nvSpPr>
        <p:spPr>
          <a:xfrm>
            <a:off x="533520" y="1676520"/>
            <a:ext cx="807696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ncine has fi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hair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ut six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ue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m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anksgiving dinner; she hopes that old Unc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me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bring an ex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uest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ember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TextBox 9"/>
          <p:cNvSpPr/>
          <p:nvPr/>
        </p:nvSpPr>
        <p:spPr>
          <a:xfrm>
            <a:off x="533520" y="1676520"/>
            <a:ext cx="807696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ncine has fiv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hai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ut six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ue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m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anksgiving dinner; she hopes that old Unc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me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bring an ex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h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uest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ember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9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2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eanne washed the piles of dirty dishes;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vacuumed the filthy rug; they tri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te a month’s worth of housekeep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gle h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hes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d,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TextBox 7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eanne washed the piles of dirt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ishes; wh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vacuumed the filthy rug;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ried 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te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onth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of housekeep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gle h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hes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d,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TextBox 8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eanne washed the piles of dirt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ishes wh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vacuumed the filthy rug;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ried 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te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onth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of housekeep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gle h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ishes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d,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8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5" name="Picture 6" descr="dunno.jpg"/>
          <p:cNvPicPr/>
          <p:nvPr/>
        </p:nvPicPr>
        <p:blipFill>
          <a:blip r:embed="rId1"/>
          <a:srcRect l="0" t="0" r="0" b="28124"/>
          <a:stretch/>
        </p:blipFill>
        <p:spPr>
          <a:xfrm>
            <a:off x="2438280" y="2643120"/>
            <a:ext cx="4524480" cy="4214880"/>
          </a:xfrm>
          <a:prstGeom prst="rect">
            <a:avLst/>
          </a:prstGeom>
          <a:ln w="0">
            <a:noFill/>
          </a:ln>
        </p:spPr>
      </p:pic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tandard Punctuation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7" name="Rounded Rectangular Callout 7"/>
          <p:cNvSpPr/>
          <p:nvPr/>
        </p:nvSpPr>
        <p:spPr>
          <a:xfrm>
            <a:off x="304920" y="3809880"/>
            <a:ext cx="2133360" cy="1295640"/>
          </a:xfrm>
          <a:prstGeom prst="wedgeRoundRectCallout">
            <a:avLst>
              <a:gd name="adj1" fmla="val 137356"/>
              <a:gd name="adj2" fmla="val -924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need 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com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Rounded Rectangular Callout 8"/>
          <p:cNvSpPr/>
          <p:nvPr/>
        </p:nvSpPr>
        <p:spPr>
          <a:xfrm>
            <a:off x="6400800" y="4495680"/>
            <a:ext cx="2514600" cy="1371600"/>
          </a:xfrm>
          <a:prstGeom prst="wedgeRoundRectCallout">
            <a:avLst>
              <a:gd name="adj1" fmla="val -105828"/>
              <a:gd name="adj2" fmla="val -5375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do I need 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emicol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6" name="TextBox 3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drey can’t leave work early, and Peggy wo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 with the cupcakes, so I gues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’ll have to 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 the baking my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TextBox 7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dr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eave work early, and Pegg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o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 with the cupcakes, so I guess </a:t>
            </a:r>
            <a:r>
              <a:rPr b="1" lang="en-US" sz="3200" spc="-1" strike="noStrike" u="sng">
                <a:solidFill>
                  <a:srgbClr val="ffc000"/>
                </a:solidFill>
                <a:uFillTx/>
                <a:latin typeface="Garamond"/>
                <a:ea typeface="Arial"/>
              </a:rPr>
              <a:t>I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’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ve to 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 the baking my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TextBox 8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dr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eave work early, and Pegg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 with the cupcakes, so I guess </a:t>
            </a:r>
            <a:r>
              <a:rPr b="1" lang="en-US" sz="3200" spc="-1" strike="noStrike" u="sng">
                <a:solidFill>
                  <a:srgbClr val="ffc000"/>
                </a:solidFill>
                <a:uFillTx/>
                <a:latin typeface="Garamond"/>
                <a:ea typeface="Arial"/>
              </a:rPr>
              <a:t>I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’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ve to 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 the baking my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o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7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0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picnic, we were tormented by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cts: ants swarming into the potato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ad, bees buzzing by our ears, and a katyd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mping into Henry’s open mo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nic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cts; 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ad b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TextBox 8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icnic, 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ere tormented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nsects: 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warming into the pota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lad, b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uzzing by our ears, and a katyd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mping into Henry’s open mo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nic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cts; 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ad b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TextBox 9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icnic, 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ere tormented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nsects: 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warming into the pota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lad, b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uzzing by our ears, and a katyd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mping into Henry’s open mo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nic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cts; 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ad b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, Part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4" name="TextBox 4"/>
          <p:cNvSpPr/>
          <p:nvPr/>
        </p:nvSpPr>
        <p:spPr>
          <a:xfrm>
            <a:off x="762120" y="1676520"/>
            <a:ext cx="7619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sentence that is correctly punctu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5" name="Picture 7" descr="confident.jpg"/>
          <p:cNvPicPr/>
          <p:nvPr/>
        </p:nvPicPr>
        <p:blipFill>
          <a:blip r:embed="rId1"/>
          <a:srcRect l="0" t="0" r="0" b="42733"/>
          <a:stretch/>
        </p:blipFill>
        <p:spPr>
          <a:xfrm>
            <a:off x="1219320" y="3429000"/>
            <a:ext cx="2666880" cy="3429000"/>
          </a:xfrm>
          <a:prstGeom prst="rect">
            <a:avLst/>
          </a:prstGeom>
          <a:ln w="0">
            <a:noFill/>
          </a:ln>
        </p:spPr>
      </p:pic>
      <p:sp>
        <p:nvSpPr>
          <p:cNvPr id="1466" name="Rounded Rectangular Callout 6"/>
          <p:cNvSpPr/>
          <p:nvPr/>
        </p:nvSpPr>
        <p:spPr>
          <a:xfrm>
            <a:off x="4648320" y="4572000"/>
            <a:ext cx="2133360" cy="1752480"/>
          </a:xfrm>
          <a:prstGeom prst="wedgeRoundRectCallout">
            <a:avLst>
              <a:gd name="adj1" fmla="val -128222"/>
              <a:gd name="adj2" fmla="val -4423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y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different ty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ite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5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181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681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8" name="TextBox 3"/>
          <p:cNvSpPr/>
          <p:nvPr/>
        </p:nvSpPr>
        <p:spPr>
          <a:xfrm>
            <a:off x="533520" y="16765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s writing Christina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’s writing Christina’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s writing Christina’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TextBox 4"/>
          <p:cNvSpPr/>
          <p:nvPr/>
        </p:nvSpPr>
        <p:spPr>
          <a:xfrm>
            <a:off x="533520" y="1676520"/>
            <a:ext cx="8076960" cy="3429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s writing Christina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’s writing Christina’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oger spent three hours writing Christina’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1" name="TextBox 3"/>
          <p:cNvSpPr/>
          <p:nvPr/>
        </p:nvSpPr>
        <p:spPr>
          <a:xfrm>
            <a:off x="533520" y="1600200"/>
            <a:ext cx="80769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s and the frogs sing Luis cannot get a good night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s and the frogs sing, Luis cannot get a good night’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’s and the frog’s sing, Luis cannot get a good night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TextBox 4"/>
          <p:cNvSpPr/>
          <p:nvPr/>
        </p:nvSpPr>
        <p:spPr>
          <a:xfrm>
            <a:off x="533520" y="1600200"/>
            <a:ext cx="8076960" cy="3505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s and the frogs sing Luis cannot get a good night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en the crickets and the frogs sing, Luis cannot get a good night’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’s and the frog’s sing, Luis cannot get a good night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9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4" name="TextBox 3"/>
          <p:cNvSpPr/>
          <p:nvPr/>
        </p:nvSpPr>
        <p:spPr>
          <a:xfrm>
            <a:off x="533520" y="160020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, you’ll need a drop cloth and a 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 you’l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a drop cloth, and a 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, youll need a drop cloth, and a ladd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TextBox 4"/>
          <p:cNvSpPr/>
          <p:nvPr/>
        </p:nvSpPr>
        <p:spPr>
          <a:xfrm>
            <a:off x="533520" y="1600200"/>
            <a:ext cx="8076960" cy="3657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efore you start painting the walls, you’ll need a drop cloth and a 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 you’l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a drop cloth, and a 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, youll need a drop cloth, and a ladd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4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7" name="TextBox 3"/>
          <p:cNvSpPr/>
          <p:nvPr/>
        </p:nvSpPr>
        <p:spPr>
          <a:xfrm>
            <a:off x="533520" y="160020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s haircut; it looked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’s had grazed on hi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’s haircut; it look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s had grazed on his h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’s haircut, it look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s had grazed on his’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TextBox 4"/>
          <p:cNvSpPr/>
          <p:nvPr/>
        </p:nvSpPr>
        <p:spPr>
          <a:xfrm>
            <a:off x="533520" y="1600200"/>
            <a:ext cx="8076960" cy="3657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s haircut; it looked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’s had grazed on hi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arlene laughed at Jeb’s haircut; it looked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s if goats had grazed on his h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’s haircut, it look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s had grazed on his’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9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1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482" name="Rounded Rectangular Callout 4"/>
          <p:cNvSpPr/>
          <p:nvPr/>
        </p:nvSpPr>
        <p:spPr>
          <a:xfrm>
            <a:off x="4952880" y="2362320"/>
            <a:ext cx="3733920" cy="2895480"/>
          </a:xfrm>
          <a:prstGeom prst="wedgeRoundRectCallout">
            <a:avLst>
              <a:gd name="adj1" fmla="val -103453"/>
              <a:gd name="adj2" fmla="val 1837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om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ostrop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9" name="Picture 6" descr="karate.jpg"/>
          <p:cNvPicPr/>
          <p:nvPr/>
        </p:nvPicPr>
        <p:blipFill>
          <a:blip r:embed="rId1"/>
          <a:stretch/>
        </p:blipFill>
        <p:spPr>
          <a:xfrm>
            <a:off x="6629400" y="1676520"/>
            <a:ext cx="1905120" cy="4876560"/>
          </a:xfrm>
          <a:prstGeom prst="rect">
            <a:avLst/>
          </a:prstGeom>
          <a:ln w="0">
            <a:noFill/>
          </a:ln>
        </p:spPr>
      </p:pic>
      <p:sp>
        <p:nvSpPr>
          <p:cNvPr id="1380" name="Rounded Rectangular Callout 2"/>
          <p:cNvSpPr/>
          <p:nvPr/>
        </p:nvSpPr>
        <p:spPr>
          <a:xfrm>
            <a:off x="533520" y="2743200"/>
            <a:ext cx="3352680" cy="3505320"/>
          </a:xfrm>
          <a:prstGeom prst="wedgeRoundRectCallout">
            <a:avLst>
              <a:gd name="adj1" fmla="val 138708"/>
              <a:gd name="adj2" fmla="val -4927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standard punctuation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end mark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omma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emicol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postrop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701064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unctuation items on an objective test might look like these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3" name="TextBox 3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we got out of the car we could smell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licious chicken and rice that Grandma w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ng for d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,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cken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ce,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TextBox 4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we got out of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r 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uld smell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liciou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hicken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ice th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randma w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              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ng for d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,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cken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ce,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TextBox 5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we got out of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ar, 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uld smell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liciou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hicken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ice th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randma w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              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ng for d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ar,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cken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ce,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6" name="Picture 6" descr="lookup.jpg"/>
          <p:cNvPicPr/>
          <p:nvPr/>
        </p:nvPicPr>
        <p:blipFill>
          <a:blip r:embed="rId1"/>
          <a:stretch/>
        </p:blipFill>
        <p:spPr>
          <a:xfrm>
            <a:off x="6324480" y="3505320"/>
            <a:ext cx="701640" cy="3124080"/>
          </a:xfrm>
          <a:prstGeom prst="rect">
            <a:avLst/>
          </a:prstGeom>
          <a:ln w="0">
            <a:noFill/>
          </a:ln>
        </p:spPr>
      </p:pic>
      <p:sp>
        <p:nvSpPr>
          <p:cNvPr id="1387" name="Rounded Rectangular Callout 7"/>
          <p:cNvSpPr/>
          <p:nvPr/>
        </p:nvSpPr>
        <p:spPr>
          <a:xfrm>
            <a:off x="3581280" y="4419720"/>
            <a:ext cx="2590920" cy="1295280"/>
          </a:xfrm>
          <a:prstGeom prst="wedgeRoundRectCallout">
            <a:avLst>
              <a:gd name="adj1" fmla="val 54412"/>
              <a:gd name="adj2" fmla="val -8100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 you need a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comm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a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hick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ric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Rounded Rectangular Callout 8"/>
          <p:cNvSpPr/>
          <p:nvPr/>
        </p:nvSpPr>
        <p:spPr>
          <a:xfrm>
            <a:off x="3581280" y="4419720"/>
            <a:ext cx="2590920" cy="1295280"/>
          </a:xfrm>
          <a:prstGeom prst="wedgeRoundRectCallout">
            <a:avLst>
              <a:gd name="adj1" fmla="val 55000"/>
              <a:gd name="adj2" fmla="val -8218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Exactly!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need to connect the introductory clau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0" name="TextBox 3"/>
          <p:cNvSpPr/>
          <p:nvPr/>
        </p:nvSpPr>
        <p:spPr>
          <a:xfrm>
            <a:off x="609480" y="1523880"/>
            <a:ext cx="7925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t looking, Julie filled the dogs bowls with leftover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’t looking, Julie filled the dogs’ bowls with leftover’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’t looking, Julie filled the dogs’ bowls with leftover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Rounded Rectangular Callout 18"/>
          <p:cNvSpPr/>
          <p:nvPr/>
        </p:nvSpPr>
        <p:spPr>
          <a:xfrm>
            <a:off x="1676520" y="4876920"/>
            <a:ext cx="4343400" cy="1752480"/>
          </a:xfrm>
          <a:prstGeom prst="wedgeRoundRectCallout">
            <a:avLst>
              <a:gd name="adj1" fmla="val 67662"/>
              <a:gd name="adj2" fmla="val -52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item might hav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4 vers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a sentence, and you will have to choose the letter wher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ll punctu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orre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TextBox 19"/>
          <p:cNvSpPr/>
          <p:nvPr/>
        </p:nvSpPr>
        <p:spPr>
          <a:xfrm>
            <a:off x="609480" y="1523880"/>
            <a:ext cx="8305920" cy="3048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t looking, Julie filled the dogs bowls with leftover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’t looking, Julie filled the dogs’ bowls with leftover’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ince Grandma wasn’t looking, Julie filled the dogs’ bowls with leftover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3" name="Picture 17" descr="lookup.jpg"/>
          <p:cNvPicPr/>
          <p:nvPr/>
        </p:nvPicPr>
        <p:blipFill>
          <a:blip r:embed="rId1"/>
          <a:stretch/>
        </p:blipFill>
        <p:spPr>
          <a:xfrm>
            <a:off x="6781680" y="4411800"/>
            <a:ext cx="549360" cy="2446200"/>
          </a:xfrm>
          <a:prstGeom prst="rect">
            <a:avLst/>
          </a:prstGeom>
          <a:ln w="0">
            <a:noFill/>
          </a:ln>
        </p:spPr>
      </p:pic>
      <p:sp>
        <p:nvSpPr>
          <p:cNvPr id="1394" name="Rounded Rectangular Callout 20"/>
          <p:cNvSpPr/>
          <p:nvPr/>
        </p:nvSpPr>
        <p:spPr>
          <a:xfrm>
            <a:off x="3733920" y="4876920"/>
            <a:ext cx="2286000" cy="1752480"/>
          </a:xfrm>
          <a:prstGeom prst="wedgeRoundRectCallout">
            <a:avLst>
              <a:gd name="adj1" fmla="val 83976"/>
              <a:gd name="adj2" fmla="val -535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ice that th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postroph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 al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orr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vers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12952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d Marks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6" name="Subtitle 2"/>
          <p:cNvSpPr/>
          <p:nvPr/>
        </p:nvSpPr>
        <p:spPr>
          <a:xfrm>
            <a:off x="68580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perio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to e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tate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Jasmine ate a chocolate-broccoli muffin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question mark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when asking a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ques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Did Jasmine eat a chocolate-broccoli muffin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overuse</a:t>
            </a:r>
            <a:r>
              <a:rPr b="0" i="1" lang="en-US" sz="800" spc="-1" strike="noStrike">
                <a:solidFill>
                  <a:srgbClr val="ffc000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xclamation mark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!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signif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xcitemen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mphasi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Oh, no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!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 Jasmine ate a chocolate-broccoli muffin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7" name="Picture 8" descr="angry.jpg"/>
          <p:cNvPicPr/>
          <p:nvPr/>
        </p:nvPicPr>
        <p:blipFill>
          <a:blip r:embed="rId1"/>
          <a:srcRect l="0" t="0" r="0" b="32812"/>
          <a:stretch/>
        </p:blipFill>
        <p:spPr>
          <a:xfrm>
            <a:off x="0" y="2590920"/>
            <a:ext cx="4863960" cy="4267080"/>
          </a:xfrm>
          <a:prstGeom prst="rect">
            <a:avLst/>
          </a:prstGeom>
          <a:ln w="0">
            <a:noFill/>
          </a:ln>
        </p:spPr>
      </p:pic>
      <p:sp>
        <p:nvSpPr>
          <p:cNvPr id="1398" name="Rounded Rectangular Callout 9"/>
          <p:cNvSpPr/>
          <p:nvPr/>
        </p:nvSpPr>
        <p:spPr>
          <a:xfrm>
            <a:off x="5638680" y="2743200"/>
            <a:ext cx="3124440" cy="3200400"/>
          </a:xfrm>
          <a:prstGeom prst="wedgeRoundRectCallout">
            <a:avLst>
              <a:gd name="adj1" fmla="val -143745"/>
              <a:gd name="adj2" fmla="val 4275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I have broccoli stuck in my teeth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 have an appointment at the dentist’s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e exclamation mark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per essay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is a good average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0" name="Picture 1" descr="scream.jpg"/>
          <p:cNvPicPr/>
          <p:nvPr/>
        </p:nvPicPr>
        <p:blipFill>
          <a:blip r:embed="rId1"/>
          <a:stretch/>
        </p:blipFill>
        <p:spPr>
          <a:xfrm>
            <a:off x="0" y="1981080"/>
            <a:ext cx="3724200" cy="4876920"/>
          </a:xfrm>
          <a:prstGeom prst="rect">
            <a:avLst/>
          </a:prstGeom>
          <a:ln w="0">
            <a:noFill/>
          </a:ln>
        </p:spPr>
      </p:pic>
      <p:sp>
        <p:nvSpPr>
          <p:cNvPr id="1401" name="Rounded Rectangular Callout 2"/>
          <p:cNvSpPr/>
          <p:nvPr/>
        </p:nvSpPr>
        <p:spPr>
          <a:xfrm>
            <a:off x="4952880" y="1371600"/>
            <a:ext cx="3962520" cy="3505320"/>
          </a:xfrm>
          <a:prstGeom prst="wedgeRoundRectCallout">
            <a:avLst>
              <a:gd name="adj1" fmla="val -130472"/>
              <a:gd name="adj2" fmla="val 3508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t I really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love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mean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love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exclamation mark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want to use it all the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time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’s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me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TextBox 3"/>
          <p:cNvSpPr/>
          <p:nvPr/>
        </p:nvSpPr>
        <p:spPr>
          <a:xfrm>
            <a:off x="4952880" y="1371600"/>
            <a:ext cx="3962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4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1997 - 2014 by Robin L. Simmons. All Rights Reserved.</dc:description>
  <dc:language>en-US</dc:language>
  <cp:lastModifiedBy>Nadia Williams</cp:lastModifiedBy>
  <dcterms:modified xsi:type="dcterms:W3CDTF">2014-02-27T15:12:11Z</dcterms:modified>
  <cp:revision>161</cp:revision>
  <dc:subject/>
  <dc:title>Punctu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oReflect">
    <vt:bool>0</vt:bool>
  </property>
  <property fmtid="{D5CDD505-2E9C-101B-9397-08002B2CF9AE}" pid="3" name="KeepGraph">
    <vt:bool>0</vt:bool>
  </property>
  <property fmtid="{D5CDD505-2E9C-101B-9397-08002B2CF9AE}" pid="4" name="ShowPercent">
    <vt:bool>1</vt:bool>
  </property>
  <property fmtid="{D5CDD505-2E9C-101B-9397-08002B2CF9AE}" pid="5" name="ShowTimer">
    <vt:bool>1</vt:bool>
  </property>
</Properties>
</file>